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B528-33B1-40BB-B66D-E934227A8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4CE0-963F-498D-82D7-BE62FEE2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2383-6915-4D00-ACBA-8747B53CC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4150-EB45-4189-AB03-6021E6438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92C4-93AF-4C6F-A8F0-9E996F0FA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AFE6-AE00-478F-A311-93D52647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E704C-BC09-4D83-A683-4BC9CBF1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6953-FC17-49CD-AD5D-67759F85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D2512-EFB0-4E92-B514-C9B0CACE9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33F2-E4A7-4219-9C38-F29D497D9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3B1C0-8364-44F8-A58B-D14C491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DCC5-7941-46F2-8123-D0B25DEA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9070-3BA8-4763-A009-680AC4FF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55DE-8318-43DF-86C3-4D053559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6918-4849-4187-A989-02FE1B1B1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ED6E-0479-4833-B366-BD2DBFCA9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FCDE-07F8-43D6-BD5B-04209729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D1CC-9F2F-4380-B0CC-52585071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8F36-25D1-4713-A373-398B04620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8D09-F068-442E-9DD2-A0550BE53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2BB-69DA-4B7E-954E-BD16F0A4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614E-8508-43D7-96EA-A1605861C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70EE-C517-43BC-B528-F064C727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3C0-94BE-462D-A5C7-64246F9F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1C72-BAA0-4067-B5FC-E76D537A2BF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2ED5-8C20-4CCD-BF9B-D5BC412166D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HOW TO SEARCH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NONFICTION BOOK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32000" y="479736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js libr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3626640" y="4005360"/>
            <a:ext cx="181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ana Duk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AF373-42AE-40B0-964E-DBF893DE48C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50920" y="765000"/>
            <a:ext cx="2011320" cy="2352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700360" y="1052640"/>
            <a:ext cx="3157560" cy="40320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5796000" y="1052640"/>
            <a:ext cx="3116160" cy="4032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711960" y="5300640"/>
            <a:ext cx="511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9  Who enjoys a good groo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25   When does a tiger cub leave hom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71640" y="587700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 we use a contents page?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13000"/>
            <a:ext cx="2700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able of contents is a list of book chapters in the order they appear in a book with corresponding page numbers. It helps the reader find information about main topics in the book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7D1A-833B-449F-824E-5464FE1AB9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Index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16360" y="1341360"/>
            <a:ext cx="3616200" cy="4681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7181640" y="3371760"/>
            <a:ext cx="133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iger  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boon 2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789360"/>
            <a:ext cx="2520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does an index work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How are the index and contents page differ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06200" y="907920"/>
            <a:ext cx="57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ndex is a list of key words, arranged alphabetically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87C0-BAE5-4050-8FA9-22DC3CF7E9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able of contents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example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56000" y="1700280"/>
            <a:ext cx="3278160" cy="43210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5796000" y="1700280"/>
            <a:ext cx="3147840" cy="432108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3"/>
          <a:stretch/>
        </p:blipFill>
        <p:spPr>
          <a:xfrm>
            <a:off x="179280" y="1413000"/>
            <a:ext cx="2133720" cy="28130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BE7-082A-41E2-A8E6-55EF7970E8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ex - Glossa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3431880" cy="4690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3605400" cy="4751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099080" y="6035760"/>
            <a:ext cx="19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ibernation - 7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836640"/>
            <a:ext cx="426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lossary explains difficult or unusual words used in the text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BF2C-CFBA-4C9A-9A19-184012FAFE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843280" y="1052640"/>
            <a:ext cx="3605040" cy="4870440"/>
          </a:xfrm>
          <a:prstGeom prst="rect">
            <a:avLst/>
          </a:prstGeom>
          <a:ln w="0">
            <a:noFill/>
          </a:ln>
        </p:spPr>
      </p:pic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24000" y="5734080"/>
            <a:ext cx="360360" cy="39384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93840"/>
              <a:gd name="textAreaBottom" fmla="*/ 370800 h 393840"/>
            </a:gdLst>
            <a:ahLst/>
            <a:rect l="textAreaLeft" t="textAreaTop" r="textAreaRight" b="textAreaBottom"/>
            <a:pathLst>
              <a:path w="21600" h="23605">
                <a:moveTo>
                  <a:pt x="0" y="0"/>
                </a:moveTo>
                <a:lnTo>
                  <a:pt x="21600" y="0"/>
                </a:lnTo>
                <a:lnTo>
                  <a:pt x="21600" y="23605"/>
                </a:lnTo>
                <a:lnTo>
                  <a:pt x="0" y="23605"/>
                </a:lnTo>
                <a:close/>
              </a:path>
              <a:path fill="lightenLess" w="21600" h="2360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05">
                <a:moveTo>
                  <a:pt x="21600" y="0"/>
                </a:moveTo>
                <a:lnTo>
                  <a:pt x="21600" y="23605"/>
                </a:lnTo>
                <a:lnTo>
                  <a:pt x="20200" y="22205"/>
                </a:lnTo>
                <a:lnTo>
                  <a:pt x="20200" y="1400"/>
                </a:lnTo>
                <a:close/>
              </a:path>
              <a:path fill="darkenLess" w="21600" h="23605">
                <a:moveTo>
                  <a:pt x="21600" y="23605"/>
                </a:moveTo>
                <a:lnTo>
                  <a:pt x="0" y="23605"/>
                </a:lnTo>
                <a:lnTo>
                  <a:pt x="1400" y="22205"/>
                </a:lnTo>
                <a:lnTo>
                  <a:pt x="20200" y="22205"/>
                </a:lnTo>
                <a:close/>
              </a:path>
              <a:path fill="lighten" w="21600" h="23605">
                <a:moveTo>
                  <a:pt x="0" y="2360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05"/>
                </a:lnTo>
                <a:close/>
              </a:path>
              <a:path fill="darken" w="21600" h="23605">
                <a:moveTo>
                  <a:pt x="3794" y="11802"/>
                </a:moveTo>
                <a:lnTo>
                  <a:pt x="17806" y="4796"/>
                </a:lnTo>
                <a:lnTo>
                  <a:pt x="17806" y="1880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04600" y="57484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Back 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ADA0-86A3-4B02-96D1-BB1ABF1CE2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From the boo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3670200" cy="47530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3735360" cy="482436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250920" y="587700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firstslide"/>
          </p:cNvPr>
          <p:cNvSpPr/>
          <p:nvPr/>
        </p:nvSpPr>
        <p:spPr>
          <a:xfrm>
            <a:off x="250920" y="115920"/>
            <a:ext cx="431640" cy="46656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66560"/>
              <a:gd name="textAreaBottom" fmla="*/ 438840 h 466560"/>
            </a:gdLst>
            <a:ahLst/>
            <a:rect l="textAreaLeft" t="textAreaTop" r="textAreaRight" b="textAreaBottom"/>
            <a:pathLst>
              <a:path w="21600" h="23346">
                <a:moveTo>
                  <a:pt x="0" y="0"/>
                </a:moveTo>
                <a:lnTo>
                  <a:pt x="21600" y="0"/>
                </a:lnTo>
                <a:lnTo>
                  <a:pt x="21600" y="23346"/>
                </a:lnTo>
                <a:lnTo>
                  <a:pt x="0" y="23346"/>
                </a:lnTo>
                <a:close/>
              </a:path>
              <a:path fill="lightenLess" w="21600" h="2334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346">
                <a:moveTo>
                  <a:pt x="21600" y="0"/>
                </a:moveTo>
                <a:lnTo>
                  <a:pt x="21600" y="23346"/>
                </a:lnTo>
                <a:lnTo>
                  <a:pt x="20200" y="21946"/>
                </a:lnTo>
                <a:lnTo>
                  <a:pt x="20200" y="1400"/>
                </a:lnTo>
                <a:close/>
              </a:path>
              <a:path fill="darkenLess" w="21600" h="23346">
                <a:moveTo>
                  <a:pt x="21600" y="23346"/>
                </a:moveTo>
                <a:lnTo>
                  <a:pt x="0" y="23346"/>
                </a:lnTo>
                <a:lnTo>
                  <a:pt x="1400" y="21946"/>
                </a:lnTo>
                <a:lnTo>
                  <a:pt x="20200" y="21946"/>
                </a:lnTo>
                <a:close/>
              </a:path>
              <a:path fill="lighten" w="21600" h="23346">
                <a:moveTo>
                  <a:pt x="0" y="23346"/>
                </a:moveTo>
                <a:lnTo>
                  <a:pt x="0" y="0"/>
                </a:lnTo>
                <a:lnTo>
                  <a:pt x="1400" y="1400"/>
                </a:lnTo>
                <a:lnTo>
                  <a:pt x="1400" y="21946"/>
                </a:lnTo>
                <a:close/>
              </a:path>
              <a:path fill="darken" w="21600" h="23346">
                <a:moveTo>
                  <a:pt x="10800" y="4710"/>
                </a:moveTo>
                <a:lnTo>
                  <a:pt x="13376" y="7321"/>
                </a:ln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lnTo>
                  <a:pt x="17763" y="11673"/>
                </a:lnTo>
                <a:lnTo>
                  <a:pt x="16109" y="11673"/>
                </a:lnTo>
                <a:lnTo>
                  <a:pt x="16109" y="18862"/>
                </a:lnTo>
                <a:lnTo>
                  <a:pt x="5491" y="18862"/>
                </a:lnTo>
                <a:lnTo>
                  <a:pt x="5491" y="11673"/>
                </a:lnTo>
                <a:lnTo>
                  <a:pt x="3837" y="11673"/>
                </a:lnTo>
                <a:close/>
              </a:path>
              <a:path fill="darkenLess" w="21600" h="23346">
                <a:moveTo>
                  <a:pt x="13376" y="7321"/>
                </a:moveTo>
                <a:lnTo>
                  <a:pt x="13376" y="5580"/>
                </a:lnTo>
                <a:lnTo>
                  <a:pt x="15152" y="5580"/>
                </a:lnTo>
                <a:lnTo>
                  <a:pt x="15152" y="9097"/>
                </a:lnTo>
                <a:close/>
              </a:path>
              <a:path fill="darkenLess" w="21600" h="23346">
                <a:moveTo>
                  <a:pt x="9877" y="15172"/>
                </a:moveTo>
                <a:lnTo>
                  <a:pt x="11723" y="15172"/>
                </a:lnTo>
                <a:lnTo>
                  <a:pt x="11723" y="18862"/>
                </a:lnTo>
                <a:lnTo>
                  <a:pt x="16109" y="18862"/>
                </a:lnTo>
                <a:lnTo>
                  <a:pt x="16109" y="11673"/>
                </a:lnTo>
                <a:lnTo>
                  <a:pt x="5491" y="11673"/>
                </a:lnTo>
                <a:lnTo>
                  <a:pt x="5491" y="18862"/>
                </a:lnTo>
                <a:lnTo>
                  <a:pt x="9877" y="18862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1560" y="5950080"/>
            <a:ext cx="23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Table of cont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630864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47240" y="630864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o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NFICTION BOOK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8D5D-A571-4014-910F-D0E5D7FE13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1:12:10Z</dcterms:created>
  <dc:creator> Dana</dc:creator>
  <dc:description/>
  <dc:language>en-US</dc:language>
  <cp:lastModifiedBy>Owner</cp:lastModifiedBy>
  <dcterms:modified xsi:type="dcterms:W3CDTF">2009-03-14T03:37:35Z</dcterms:modified>
  <cp:revision>27</cp:revision>
  <dc:subject/>
  <dc:title>Slide 1</dc:title>
</cp:coreProperties>
</file>